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4.jpeg" ContentType="image/jpeg"/>
  <Override PartName="/ppt/media/image5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589-F2D6-4E9D-AA87-EC344D7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D73-DAB8-401C-9FA1-14DC1A79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288B-673B-4521-9E6B-27E662A8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156-2D3A-4433-85A7-3368395B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23A-310B-478D-ACFE-B6C5BFB4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8F8-72FC-457E-924F-2D8573CF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BCF-2175-4487-995C-031816E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820-B491-4D7E-918A-1A6D47BF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58B-24DB-49B6-A1C1-AE5C3D8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6ED-6FF4-484C-B896-9A6DB343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BC4-DD8B-4D56-92C3-96A0A84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096-985D-4E86-92B5-418281F3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153-10FE-4F15-8088-AE21BBD4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The Great Flood of 19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672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12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9051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6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3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8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62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40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8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514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4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22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29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190512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3520" y="1873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43760" y="1873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13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7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20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0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560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314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484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9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1905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40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0920" y="19051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3352680"/>
            <a:ext cx="22651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4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190512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292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73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7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136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980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56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0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44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9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732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54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944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560" y="190512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1:52Z</dcterms:modified>
  <cp:revision>19</cp:revision>
  <dc:subject/>
  <dc:title>Rivet</dc:title>
</cp:coreProperties>
</file>